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124-FBD7-45FB-88D0-2F7155C1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1A5-D6FD-4B14-9105-74391C19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C4D-73B3-4486-835F-5DF69386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7B9-BCA3-4FEA-A196-80B47A4E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CE9-5AE3-4C3D-97C7-83D03891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5BB-D8E5-4D4C-8ABC-E5FCA1E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353-F780-4767-ACF2-2581145F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038-D139-478E-8D14-0C7F24A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8C4-57A5-41FE-9869-A69D0C7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A6E-5BF0-44BD-8716-AE3ACA4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648-F1D3-4BA9-BE85-4EE166D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2FC-A560-40C8-84B9-1A98A36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4434-B836-474C-AA97-843357FBE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T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200" y="3352680"/>
            <a:ext cx="2909880" cy="301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13120" cy="208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3046320" cy="26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57200"/>
            <a:ext cx="3276720" cy="2165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is th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672080" cy="286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69040" y="1219320"/>
            <a:ext cx="2774880" cy="4190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 and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rd is the Chickad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wer is the May F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3276720" cy="304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373392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Berry State Be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erry is the Cran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everage is the Cranberry Ju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581280" cy="285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2887920" cy="2203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ckname is  The Ba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3813120" cy="299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4419720" cy="2625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3:35:22Z</dcterms:created>
  <dc:creator>Mother of Divine Grace</dc:creator>
  <dc:description/>
  <dc:language>en-US</dc:language>
  <cp:lastModifiedBy> </cp:lastModifiedBy>
  <dcterms:modified xsi:type="dcterms:W3CDTF">2012-05-20T21:22:45Z</dcterms:modified>
  <cp:revision>3</cp:revision>
  <dc:subject/>
  <dc:title>Massachusetts</dc:title>
</cp:coreProperties>
</file>